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3244-636C-4AF9-93ED-2969046D40C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9E4C-7C8C-47C6-8192-45B7649A6F1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5E00-C35C-49D8-AEFE-755E1FF55B0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121B-EB65-453B-A299-2BF8078E1DD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B1B-C358-49C1-AA36-6C5960AE3BB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245-EA4B-4156-9A6C-C61A76E3A9F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DBE-4982-490D-88AB-B33DC4F79E9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17F5-F242-4301-9C2E-74ECE7108DC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76EB-7790-41AF-9F8E-E524FD4B5FD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76C0-3333-4F0D-A479-EA986F2FC55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E04-A890-4BB0-87D9-811A13F8B46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417-E2C7-4F9E-919A-5C3B1ABB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F8A-A440-44F1-860F-6E56AFF6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FD3-DD86-4C48-83FF-8F1EF976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8A6-7C9B-4DE3-B126-162C0F0E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F59A-4EE7-4663-942C-B2E5ACF7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690-3366-47A0-A216-A3AB79D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409-319F-4B60-9E99-DD652977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1B7C-15C1-427B-8415-21EE452F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5CCB-5290-400B-A28B-B95E078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AD3D-3BAF-4B41-B0AF-66F98802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E3C0-CA71-4DB1-ABD0-DA494A6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C37-01F5-4DC7-82F6-DF4883C6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DE46-3C26-4CE5-B39F-D2BFA53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C23-2701-41CD-BE8E-71F571B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DB19-D0CA-4E4B-9B5C-B2B4E558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E6C9-C668-43D5-B720-7E9380CC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63C9-0D78-4DF7-9F29-55C769CE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C5C7-88A8-4986-8A8A-A9CE0635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9181-84FD-4603-88DE-59F8AEB0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043F-5D05-4672-9F1D-E10434F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BF4F-7C65-4530-8D79-118DEE63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9677-893F-4CE0-B679-ED270EC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8C6-06A4-4348-AB58-726847F1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4B70-4AA2-4CE7-A787-7F3EFE68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776E-C253-4720-91C2-5329BB6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E977-E168-4C59-A1E8-8332C0A9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E108-6B5F-425B-948A-2AC2E03A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FD0B-800E-4E6D-9398-41304AA7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9936-C14A-4D8A-99D6-3FC12BA0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8343-688F-4BF7-AD39-81C73239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3E46-6D6B-43AB-B4BB-04B8F01B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69B6-DFBA-4101-BF89-311B995F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62A9-0722-46B4-8DE6-33D2E40B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51D-C520-4245-AFE4-65382F6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1C982-3FE8-4C5B-957F-319D77FB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154B2-CD29-4BFE-B037-3B4B919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B883-0DC6-48FB-AFD2-8A2D8396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FC37-09C6-4BEA-879D-A004602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5505-00B1-4301-98BE-5D6EA826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D1E6-557A-4507-8D18-6D0A397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DB97-7131-485F-B20F-3FFE1B71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7B10-E082-4CB0-B732-3546E439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75DF-2BA6-4C3F-917E-10635B5D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F497-1573-4F53-B873-10B89DF0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A79-7AAF-450C-B273-A7FFAC5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4867-56D9-435F-ADA7-ED78EAFE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0B99-7B95-4B01-9E4D-65223444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386E-C4AB-40E4-837C-B0410E0A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A581-7300-403A-B19D-DAB4E050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22622-179B-44A9-9B6F-ECBA2953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2231-DF17-4AAE-8B6A-7B2335F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D473F-1933-416F-9C4B-00DAA865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8C73-3579-4807-9267-BE4292A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F0507-8B4E-4F0A-B01B-5631834D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3F58-E1F6-438C-8B50-D93CFB1A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CAB-5AEF-40C8-8DB7-A617FDDE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DA303-9EA1-416E-A778-F13A4A82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80C12-3150-4183-9F55-ABA9C182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A506-4B32-4B02-85EB-3BA60A2B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9938-0731-44C5-BB26-FD4D28CE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BD196-302B-4252-9B3F-BF33736B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DB8F9-9148-4B49-8D7A-104E109C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9EB3-A003-46B1-96A5-EE3D6ECF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7862E-073D-4E56-9883-1DA42AF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7816-0938-4623-80EA-074207A5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499B-482C-40A8-9827-DE46DE3E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707-C8C2-47C7-A013-C6F5301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38CA9-3E6E-4991-8914-674507DC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E1D38-9EDB-4182-B8D1-573ABF96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03378-5DE6-4DBB-947D-0B396CA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E71B3-BB49-45C1-92B2-57C21054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79768-E978-40D8-8406-727BF73B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9986B-40F2-4A20-827F-33319C8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90972-C7C1-4558-A7A7-4E9A2CA4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1F735-3CD1-46D4-85FA-512908AC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6E636-8599-4284-A9EF-5F203ABB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562DC-B032-4C24-B10B-7AD7141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11C-C798-47A1-8C1D-711E57F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F0FB-59CD-41F2-9E33-A37ADAF8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3A5CC-FE23-4F88-BAEA-C19F28C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64BB5-DACF-4BF5-AFB6-66901CDA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7DFB-0BE4-4AD7-BC5C-CDEE208C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D013-AA30-4931-9367-B4CFB892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E62-2F2B-4C67-8A36-E9B6DDA6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80AE-09A8-4C9D-9D24-9558155C03E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1BB6-5640-4293-9FFA-F55F69280D2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C72-5955-48B7-9481-52E2CC327CC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17C7-E646-414B-8897-C758771611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97A2-A52A-4430-8A3B-829C0FCAE96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9EB-10BE-4738-9AA4-2F0AC667011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2C74-A616-4704-85E9-1D1EBD0DE7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300" spc="-1" strike="noStrike">
                <a:solidFill>
                  <a:srgbClr val="572314"/>
                </a:solidFill>
                <a:latin typeface="Gill Sans MT"/>
              </a:rPr>
              <a:t>Embedding ICT into teaching through e-lear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TextBox 4" descr=""/>
          <p:cNvPicPr/>
          <p:nvPr/>
        </p:nvPicPr>
        <p:blipFill>
          <a:blip r:embed="rId1"/>
          <a:stretch/>
        </p:blipFill>
        <p:spPr>
          <a:xfrm>
            <a:off x="3584520" y="3913200"/>
            <a:ext cx="3438720" cy="2335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7534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Blooms Digital Taxonom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47560" y="1294920"/>
            <a:ext cx="7499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Gill Sans MT"/>
              </a:rPr>
              <a:t>What does e-learning and ICT look like for students at OUCE?  What could it look like.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Diagram 3" descr=""/>
          <p:cNvPicPr/>
          <p:nvPr/>
        </p:nvPicPr>
        <p:blipFill>
          <a:blip r:embed="rId1"/>
          <a:stretch/>
        </p:blipFill>
        <p:spPr>
          <a:xfrm>
            <a:off x="530280" y="2127240"/>
            <a:ext cx="5499000" cy="4370400"/>
          </a:xfrm>
          <a:prstGeom prst="rect">
            <a:avLst/>
          </a:prstGeom>
          <a:ln w="0">
            <a:noFill/>
          </a:ln>
        </p:spPr>
      </p:pic>
      <p:pic>
        <p:nvPicPr>
          <p:cNvPr id="357" name="Diagram 5" descr=""/>
          <p:cNvPicPr/>
          <p:nvPr/>
        </p:nvPicPr>
        <p:blipFill>
          <a:blip r:embed="rId2"/>
          <a:stretch/>
        </p:blipFill>
        <p:spPr>
          <a:xfrm>
            <a:off x="3425760" y="1974960"/>
            <a:ext cx="5956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C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924680" cy="2551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5"/>
          <p:cNvSpPr/>
          <p:nvPr/>
        </p:nvSpPr>
        <p:spPr>
          <a:xfrm>
            <a:off x="6781680" y="46483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Gill Sans MT"/>
              </a:rPr>
              <a:t>Foundations for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ICT’s do you us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ave a chat with your neighbou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do you us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hat are ICT tool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How confident are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oes using ICT improve outcomes for student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What are ICT’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34" name="TextBox 3"/>
          <p:cNvGrpSpPr/>
          <p:nvPr/>
        </p:nvGrpSpPr>
        <p:grpSpPr>
          <a:xfrm>
            <a:off x="1809720" y="1573200"/>
            <a:ext cx="7907400" cy="5849280"/>
            <a:chOff x="1809720" y="1573200"/>
            <a:chExt cx="7907400" cy="5849280"/>
          </a:xfrm>
        </p:grpSpPr>
        <p:pic>
          <p:nvPicPr>
            <p:cNvPr id="335" name="TextBox 3" descr=""/>
            <p:cNvPicPr/>
            <p:nvPr/>
          </p:nvPicPr>
          <p:blipFill>
            <a:blip r:embed="rId1"/>
            <a:stretch/>
          </p:blipFill>
          <p:spPr>
            <a:xfrm>
              <a:off x="1809720" y="1573200"/>
              <a:ext cx="790740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905120" y="1600200"/>
              <a:ext cx="5943600" cy="58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computer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laptop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PDA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4000" spc="-1" strike="noStrike">
                  <a:solidFill>
                    <a:srgbClr val="000000"/>
                  </a:solidFill>
                  <a:latin typeface="Gill Sans MT"/>
                </a:rPr>
                <a:t>digital camera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igital 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video cameras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reativity and communication software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Internet </a:t>
              </a:r>
              <a:r>
                <a:rPr b="0" lang="en-NZ" sz="3600" spc="-1" strike="noStrike">
                  <a:solidFill>
                    <a:srgbClr val="000000"/>
                  </a:solidFill>
                  <a:latin typeface="Gill Sans MT"/>
                </a:rPr>
                <a:t>web2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blogs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wiki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Gill Sans MT"/>
                </a:rPr>
                <a:t>telephones </a:t>
              </a:r>
              <a:r>
                <a:rPr b="0" lang="en-NZ" sz="1400" spc="-1" strike="noStrike">
                  <a:solidFill>
                    <a:srgbClr val="000000"/>
                  </a:solidFill>
                  <a:latin typeface="Gill Sans MT"/>
                </a:rPr>
                <a:t>fax machines</a:t>
              </a:r>
              <a:r>
                <a:rPr b="0" lang="en-NZ" sz="4800" spc="-1" strike="noStrike">
                  <a:solidFill>
                    <a:srgbClr val="000000"/>
                  </a:solidFill>
                  <a:latin typeface="Gill Sans MT"/>
                </a:rPr>
                <a:t> mobiles  </a:t>
              </a:r>
              <a:r>
                <a:rPr b="0" lang="en-NZ" sz="2800" spc="-1" strike="noStrike">
                  <a:solidFill>
                    <a:srgbClr val="000000"/>
                  </a:solidFill>
                  <a:latin typeface="Gill Sans MT"/>
                </a:rPr>
                <a:t>tape recorder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interactive storie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simulated environments 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computer games programmable toys </a:t>
              </a:r>
              <a:r>
                <a:rPr b="0" lang="en-NZ" sz="4400" spc="-1" strike="noStrike">
                  <a:solidFill>
                    <a:srgbClr val="000000"/>
                  </a:solidFill>
                  <a:latin typeface="Gill Sans MT"/>
                </a:rPr>
                <a:t>videoconferencing 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data projectors </a:t>
              </a:r>
              <a:r>
                <a:rPr b="0" lang="en-NZ" sz="2400" spc="-1" strike="noStrike">
                  <a:solidFill>
                    <a:srgbClr val="000000"/>
                  </a:solidFill>
                  <a:latin typeface="Gill Sans MT"/>
                </a:rPr>
                <a:t>interactive whiteboards</a:t>
              </a:r>
              <a:r>
                <a:rPr b="0" lang="en-NZ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en-NZ" sz="3200" spc="-1" strike="noStrike">
                  <a:solidFill>
                    <a:srgbClr val="000000"/>
                  </a:solidFill>
                  <a:latin typeface="Gill Sans MT"/>
                </a:rPr>
                <a:t>pen drive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E-learning and pedag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720" y="1295280"/>
            <a:ext cx="7943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Gill Sans MT"/>
              </a:rPr>
              <a:t>Information and communication technology (ICT) has a major impact on the world in which young people live.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400" spc="-1" strike="noStrike">
                <a:solidFill>
                  <a:srgbClr val="000000"/>
                </a:solidFill>
                <a:latin typeface="Gill Sans MT"/>
              </a:rPr>
              <a:t>Similarly, e-learning </a:t>
            </a:r>
            <a:r>
              <a:rPr b="0" lang="en-NZ" sz="3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NZ" sz="4200" spc="-1" strike="noStrike">
                <a:solidFill>
                  <a:srgbClr val="922223"/>
                </a:solidFill>
                <a:latin typeface="Gill Sans MT"/>
              </a:rPr>
              <a:t>that is, learning supported by or facilitated by ICT</a:t>
            </a:r>
            <a:r>
              <a:rPr b="0" lang="en-NZ" sz="38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NZ" sz="3400" spc="-1" strike="noStrike">
                <a:solidFill>
                  <a:srgbClr val="000000"/>
                </a:solidFill>
                <a:latin typeface="Gill Sans MT"/>
              </a:rPr>
              <a:t>has considerable potential to support the teaching approaches outlined in the above section.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581280" y="6324480"/>
            <a:ext cx="541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Ministry of Education (2007) </a:t>
            </a:r>
            <a:r>
              <a:rPr b="0" i="1" lang="en-NZ" sz="1000" spc="-1" strike="noStrike">
                <a:solidFill>
                  <a:srgbClr val="000000"/>
                </a:solidFill>
                <a:latin typeface="Arial"/>
              </a:rPr>
              <a:t>The New Zealand Curriculum Years 1- 13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Effective pedagogy: Teacher actions promoting student learning (pg 36) Wellington, New Zea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900" spc="-1" strike="noStrike">
                <a:solidFill>
                  <a:srgbClr val="572314"/>
                </a:solidFill>
                <a:latin typeface="Gill Sans MT"/>
              </a:rPr>
              <a:t>Where exactly does e-learning f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Content Placeholder 3" descr=""/>
          <p:cNvPicPr/>
          <p:nvPr/>
        </p:nvPicPr>
        <p:blipFill>
          <a:blip r:embed="rId1"/>
          <a:stretch/>
        </p:blipFill>
        <p:spPr>
          <a:xfrm>
            <a:off x="1139760" y="1163520"/>
            <a:ext cx="7650360" cy="5572080"/>
          </a:xfrm>
          <a:prstGeom prst="rect">
            <a:avLst/>
          </a:prstGeom>
          <a:ln w="0">
            <a:noFill/>
          </a:ln>
        </p:spPr>
      </p:pic>
      <p:grpSp>
        <p:nvGrpSpPr>
          <p:cNvPr id="342" name="Left-Right Arrow 5"/>
          <p:cNvGrpSpPr/>
          <p:nvPr/>
        </p:nvGrpSpPr>
        <p:grpSpPr>
          <a:xfrm>
            <a:off x="1676520" y="5888160"/>
            <a:ext cx="6662520" cy="774720"/>
            <a:chOff x="1676520" y="5888160"/>
            <a:chExt cx="6662520" cy="774720"/>
          </a:xfrm>
        </p:grpSpPr>
        <p:pic>
          <p:nvPicPr>
            <p:cNvPr id="343" name="Left-Right Arrow 5" descr=""/>
            <p:cNvPicPr/>
            <p:nvPr/>
          </p:nvPicPr>
          <p:blipFill>
            <a:blip r:embed="rId2"/>
            <a:stretch/>
          </p:blipFill>
          <p:spPr>
            <a:xfrm>
              <a:off x="1676520" y="5888160"/>
              <a:ext cx="6662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906560" y="6097680"/>
              <a:ext cx="6203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6"/>
          <p:cNvSpPr/>
          <p:nvPr/>
        </p:nvSpPr>
        <p:spPr>
          <a:xfrm>
            <a:off x="3657600" y="5334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- learning and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37339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Key 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E-learning and pedago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371600" y="1294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For instance, e-learning may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assist the making of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connections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enabling students to enter and explore new learning environments, overcoming barriers of distance and ti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facilitate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shared learning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enabling students to join or create communities of learners that extend well beyond the classro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assist in the creation of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supportive learning environments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offering resources that take account of individual, cultural, or developmental differen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enhance </a:t>
            </a:r>
            <a:r>
              <a:rPr b="0" i="1" lang="en-NZ" sz="1800" spc="-1" strike="noStrike">
                <a:solidFill>
                  <a:srgbClr val="000000"/>
                </a:solidFill>
                <a:latin typeface="Gill Sans MT"/>
              </a:rPr>
              <a:t>opportunities to learn</a:t>
            </a: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 by offering students virtual experiences and tools that save them time, allowing them to take their learning furthe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Schools should explore not only how ICT can supplement traditional ways of teaching but also how it can open up new and different ways of learning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733920" y="6458040"/>
            <a:ext cx="54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Ministry of Education (2007) </a:t>
            </a:r>
            <a:r>
              <a:rPr b="0" i="1" lang="en-NZ" sz="800" spc="-1" strike="noStrike">
                <a:solidFill>
                  <a:srgbClr val="000000"/>
                </a:solidFill>
                <a:latin typeface="Arial"/>
              </a:rPr>
              <a:t>The New Zealand Curriculum Years 1- 13 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Effective pedagogy: Teacher actions promoting student learning (pg 36) Wellington, New Zea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n Schools a snapsho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Gill Sans MT"/>
              </a:rPr>
              <a:t>Last term I worked in schools across all curriculum areas, with teachers and students that are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Animating – scenes from natural disasters – using clay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Videoing – information about their school and putting it on youtube and their wik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Using comic programmes for – posters, narrative writing and recou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Using Interactive boards – from a new entrant class through to year 7 and 8. Used throughout the day for everything from news board to interactive music programmes (garageband and super dooper music looper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Podcasting – doing a weekly news programme and posting on their class blo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Gill Sans MT"/>
              </a:rPr>
              <a:t>Digital Learning Objects – used authentically within learning areas both as a whole class and collaboratively in grou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Gill Sans MT"/>
              </a:rPr>
              <a:t>...and the list goes 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300" spc="-1" strike="noStrike">
                <a:solidFill>
                  <a:srgbClr val="572314"/>
                </a:solidFill>
                <a:latin typeface="Gill Sans MT"/>
              </a:rPr>
              <a:t>ICT Tools for Teach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ireless intern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ata projecto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Digital and Video camer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Interactive whitebo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Web 2.0 tools – collaborative t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Gill Sans MT"/>
              </a:rPr>
              <a:t>Quality  online digital learning obj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drea Robertson</dc:creator>
  <dc:description/>
  <dc:language>en-US</dc:language>
  <cp:lastModifiedBy>roban31p</cp:lastModifiedBy>
  <dcterms:modified xsi:type="dcterms:W3CDTF">2008-08-14T23:15:51Z</dcterms:modified>
  <cp:revision>24</cp:revision>
  <dc:subject/>
  <dc:title>Embedding ICT into curriculum teaching</dc:title>
</cp:coreProperties>
</file>